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0A23-E426-49B3-ABFB-A291E25E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1EE6-5A35-40C4-AFFD-EC1C5044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DF31-7D38-4B58-9CF9-5DAD0A94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87DA-73DD-4C8A-942B-CB6FFBD0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AF61-2174-4212-BCE1-71BABCAB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4BCB-DABE-4F99-97C8-0517DFD3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6E01-D92D-4B4D-83EF-EF51FCF6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E6E8-C580-4543-9554-5EF33E6B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DDA6-721F-418C-960B-79F02C7C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DE3E-B2A2-422D-A23A-B307E99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9091-3CF9-4A2B-B7E7-8A87ADB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4B22-94D1-4577-88A7-2182AF74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06F3-4679-4711-A368-98B31A6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3F9F-D813-4F42-A57B-59F80E8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CA85-D8AC-4D12-B7AF-ED7B9D67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2AEA-9D7B-4867-9968-898E0A1E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D36B-2D81-4AC4-B53D-D03DDB57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5C28-10EB-4F8D-A897-396B46F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CE84-52EC-48A1-8951-4B1AAE8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D540-85E6-44D1-852E-948F25E3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21D8-A75E-4D85-88A4-A5F72008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C130-CEB5-44D9-9A2E-80935EC0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3018-E249-4350-A694-FF23559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22E2-F2EE-406E-B90B-CC0F6C5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7D27-C0A9-4519-B181-F5409EE19CC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FCC4-9FCC-4CFE-9FD9-E5017F036F7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7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76 (36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не отминавай,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ри мен се сп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ръка, що благослав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д мен прост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я Те, слом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други благославяш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забравяй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Пред престола благодатен коленича 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греха скърбя и мол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й да бъдеш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я Те, слом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други благославяш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забравяй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Ти на благодат Си изво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а даваш мир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небето любовт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е вечен пи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я Те, слом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други благославяш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забравяй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2-24T16:11:49Z</dcterms:modified>
  <cp:revision>109</cp:revision>
  <dc:subject/>
  <dc:title>Slide 1</dc:title>
</cp:coreProperties>
</file>